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203-06C6-4F9D-8441-C2B2AD6A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819-66FD-4B76-9C24-489DE437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3E1-4DD1-4D10-9D4E-06BDADFE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2F5-01D5-4D28-8A04-2695860B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6B73-7E4F-45CB-96E2-B4EAA3BB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FF64-33B2-4AC4-8C5F-09D02E4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3909-D3C6-46FB-B10F-3F1D7ED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017-C2C1-4559-A467-8D057AB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1A9-0B86-4BD6-868C-A85D53EB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703C-A8EE-45A1-A965-6C859CE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3F27-111C-4231-A592-175E1AD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2695-DFB0-42E2-9CEA-D098FF75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6FD-AAE6-49F2-9C66-C687B7D8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2AC2-69E3-47CE-BD26-BBD635B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FA35-6193-45E8-8E64-D0774DA7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D9D-D783-4798-BB96-F50BF578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A0CD-F3C2-4165-844F-52B67F4F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BA2-8FAC-45B9-9C7E-4FB4F475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A16-7BA3-46DA-9D1F-5DD07D13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0D5-36A9-4ABD-8B60-0A9116D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8A0-5576-4458-A009-CD58988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459-212D-48B9-A642-972F520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62A-4AD8-4AF6-919C-242FEBEB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C5-D8C4-4128-A82D-1760698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278E-B6DA-4BA1-A667-32DC168A33E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44A-48DE-4441-A5A0-87C7D91E768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Liceo Francisco del Rosario Sánchez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to</a:t>
            </a: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0" lang="en-US" sz="7200" spc="-1" strike="noStrike">
                <a:solidFill>
                  <a:srgbClr val="0000ff"/>
                </a:solidFill>
                <a:latin typeface="comic"/>
              </a:rPr>
              <a:t>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Matuti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auhaus 93"/>
              </a:rPr>
              <a:t>Prof.</a:t>
            </a:r>
            <a:br>
              <a:rPr sz="4000"/>
            </a:br>
            <a:r>
              <a:rPr b="0" i="1" lang="en-US" sz="8000" spc="-1" strike="noStrike">
                <a:solidFill>
                  <a:srgbClr val="0000ff"/>
                </a:solidFill>
                <a:latin typeface="comic"/>
              </a:rPr>
              <a:t>Alba castillo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auhaus 93"/>
              </a:rPr>
              <a:t>Tema:</a:t>
            </a: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0000ff"/>
                </a:solidFill>
                <a:latin typeface="Magneto"/>
              </a:rPr>
              <a:t>Grupos Étnicos 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"/>
              </a:rPr>
              <a:t>Grupos étnicos en republica dominican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Desde el momento mismo del descubrimiento de la Española, cuando Colon y sus acompañantes pisan tierra y entran en comunicación con los aborígenes, tiene lugar un proceso mas o menos complejo de relaciones raciales y culturales entre los unos a los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Los contactos de los españoles con los nativos de la isla fueron desde el principio conflictivos, tanto que produjeron la progresiva, pero implacable desaparición de los na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Ya hacia 1560 apenas quedaban algunos grupos dispersos de indígenas, sin mayores consecuencias para el futuro progreso de miscegenación que daría nacimiento al hombre dominic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 diferencia de otros países de América, Santo Domingo no presenta en la actualidad el nuevo tipo étnico común a otras latitudes del continente: el mesti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De la cultura taina restan muy pocos remanentes, y estos corresponden sobre todo a los aspectos materiales de la mis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Hay que advertir, por lo demás, que varios de esos aspectos perduraron a través del esclavo africano, quien lo hizo y los incorporo a sus costumbres y hábitos de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sí, por ejemplo, cuando los tainos empezaban a extinguirse, los negros habían logrado ya dominar la técnica del cultivo de la yuca y la preparación del alimento básico de aquel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 través de los años los esclavos africanos, los tainos legaron a nuestra cultura el cultivo de riza, cuya quema y tala de árboles serian luego continuadas por los plantadores azucar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Otros elementos importantes de la cultura material taina que sustituyeron y aparecen hoy incorporados a la vida y actividad cotidiana del dominicana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Harlow Solid Italic"/>
              </a:rPr>
              <a:t>Instrumento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can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ham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El  caracol (usado como trompeta para dar avi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cuchara de higü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Conclusió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Esperamos que halla sido de su total agrado y que hallamos recopilado la información necesaria sobre el tema </a:t>
            </a:r>
            <a:r>
              <a:rPr b="0" lang="en-US" sz="3200" spc="-1" strike="noStrike">
                <a:solidFill>
                  <a:srgbClr val="0000ff"/>
                </a:solidFill>
                <a:latin typeface="Bauhaus 93"/>
              </a:rPr>
              <a:t>“Grupos Étnic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72600">
            <a:off x="5248440" y="2135160"/>
            <a:ext cx="3311280" cy="317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Integran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enny Arias n. 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ensy Silfa n. 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Meli Méndez n. 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aritza lebron n.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Koraima Cuevas n.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Betty Ventura n.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                 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66"/>
                </a:solidFill>
                <a:latin typeface="Harlow Solid Italic"/>
              </a:rPr>
              <a:t>The pretty girl company 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072200">
            <a:off x="4933440" y="1844640"/>
            <a:ext cx="3454560" cy="389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1:35Z</dcterms:created>
  <dc:creator>Wolf</dc:creator>
  <dc:description/>
  <dc:language>en-US</dc:language>
  <cp:lastModifiedBy>Wolf</cp:lastModifiedBy>
  <dcterms:modified xsi:type="dcterms:W3CDTF">2002-01-01T04:11:51Z</dcterms:modified>
  <cp:revision>2</cp:revision>
  <dc:subject/>
  <dc:title>Liceo Francisco del Rosario Sánchez </dc:title>
</cp:coreProperties>
</file>